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27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54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</p:sldMasterIdLst>
  <p:sldIdLst>
    <p:sldId id="256" r:id="rId24"/>
    <p:sldId id="257" r:id="rId25"/>
    <p:sldId id="258" r:id="rId26"/>
    <p:sldId id="25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" Target="slides/slide1.xml"/><Relationship Id="rId25" Type="http://schemas.openxmlformats.org/officeDocument/2006/relationships/slide" Target="slides/slide2.xml"/><Relationship Id="rId26" Type="http://schemas.openxmlformats.org/officeDocument/2006/relationships/slide" Target="slides/slide3.xml"/><Relationship Id="rId27" Type="http://schemas.openxmlformats.org/officeDocument/2006/relationships/slide" Target="slides/slide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B05BD-D68D-4B3F-912F-77002387B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A5C3F-BB54-43E6-B073-79C871AD2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97B013-2490-4A9E-931A-5AAAA9F82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41FF61-9C06-455D-BCEA-4ECD813F1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7FE8C1-2674-416D-8CE2-09B8D5624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B573EE-642E-4CCA-938A-4A682696C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5097FD-5F5C-49CB-A224-00F26CB00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77C4B9-13FC-4182-B556-D23252F2E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6DDE40-F1AF-4DE6-A9C8-5C5379D0E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987F68-D18C-4B75-ADB7-2F02F01DF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351D4E-558B-4B1B-B14D-7DC22CBE8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3A73FC-8F05-434A-A245-1EF01D773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F1F95-02DC-4623-AAE6-B2F066337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5338FF-600D-4572-BA4F-D6DEBBE5C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F7402C-ACDC-423A-8AD6-6E319D552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3F3487-A62F-4A10-B702-21EEE6D70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7DDD4D-D2D7-41C3-89BA-E23AAA2CC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4E65CB-CE4A-49DE-A367-00C64E663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8F5D46-FADE-4EC2-B948-2CE41583E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E60F8A-3459-42B0-B243-BF0824A93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6E5C10-19DF-4E96-8E06-A4EBE6C7E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BA40AD-9257-4625-A403-7F4AB9659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346B52-CA1F-42A4-A927-6633E04CE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EEF2D-EF26-4314-9854-5E473C89A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8FF31C-4A01-4843-A963-1D29E9869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EC6D4E-53E7-48DB-9E72-19E0BD299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78F8EC-B6C8-4A1F-8EE9-678B8FD2E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CCFAE9-4AFE-4AB3-9704-C6B01E126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869316-BD87-4D21-ADD1-A142C2B38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EA0BF8-E871-414A-A72E-AB7DA4A24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27EADD-E1C1-4B74-9F1C-77263B86E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422C8F-2EC7-45BF-A8B7-B0E42EE15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C7EC3D-47E6-4D97-9323-75438CDA5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7D9CA5-6F5B-4840-B411-24CD0B7D4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58CE6-646E-4C43-AAEE-5B69FCBCA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D0F46F-C8D1-4903-A47D-09A2AD912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BAC5DF-F0A3-465F-AD33-DBD5025FE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568E95-E709-4AAB-8748-C3C4A7906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D07459-C2BD-474A-9252-20B8770B4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F87F06-D0AA-4BC9-9340-BBE8ED633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9E072E-45D0-470A-9CB5-3E204FD31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56C843-5153-42FC-B117-F338F620D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CB03D1-7DFD-4362-8602-8766FDBA8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64DA7A-99F8-4ED6-88D0-924C753BC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01B5FD-0ED3-4F46-958C-0988B5DA1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1CECA-39CC-4490-9461-A81759DFB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2C37F3-858F-457E-B01C-452B3D897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A0A0F2-0E3D-4BE4-A7FF-C30A18BA7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AA7786-1811-4CAB-97D3-77FC681D7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B4A859-3E86-4666-B776-9E112019C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E38E22-0D7F-4DA8-A692-974356A3F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9C2806B-5D35-42E8-80F3-285B65F7D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2214FB7-99F3-4BEF-8FB2-5C18B3CF2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40A7FC9-85EF-45F3-A040-37DEEFA4C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2C1EDCE-73D9-4B41-A114-85868F52F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829B51E-B4E4-4E8C-BE03-8B7508D4C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E6FC5-D900-47C7-AEB7-7326B952E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4253A1E-642C-4AF5-AC4A-F3F9DF5DA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A598E00-12C5-4CF4-86D2-FC94E4711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B830414-3AE0-4207-B477-CDC066A7E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893D0AB-AACB-400D-8B81-1CC66A60C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9FB8B16-6D99-4F51-8568-54C98224B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A7C66BF-EDD3-4465-AA92-6870E643D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9C9E1B3-36A7-4FDC-882E-0CCC5709F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F826D4C-DE3F-4E7D-8DE3-4103010D8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D0482B7-A140-48E5-AEDD-B52CC92E5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6230446-8D9C-4E74-8955-E442BE66E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1447D-460F-430C-BAB7-FEF1FB7FD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DA1FDEA-CCE0-4A37-A431-EAFB6C6AD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16DC096-7054-4AEC-9554-BC8B326A2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1B8A9FA-C0E7-4835-880E-FD0838DDB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ED2AA9E-A64F-4187-BA27-D8A512A85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18872C9-8271-4979-939B-B516E4BF2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31F4554-6515-4E82-90D7-BAF63872A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724A29D-EBAD-4310-87E5-4702A0EDB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C10187B-F549-40C8-AC51-B391A443B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42E324D-A556-40E3-AFAC-31CFF6932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2A0F3C0-BB33-4297-8A22-889E87956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175D8-4DC0-403A-AF56-0C327546C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4E486A4-D394-414A-9EDB-486771D3A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391DD6F-6475-4D3A-B91C-38C4E6C1D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EAF033C-6777-4720-840C-AB111BD9B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1A59119-DA49-49C8-9E36-76B3FE28F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48B2630-219A-44E4-8714-A953AB139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3AA90DE-6F8F-4F9C-9BA8-82A8978C5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11FC1B6-4E3F-443F-A607-820A03E87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4FAE4AD-2C93-4ED0-89AA-2A7DCCE95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D20C22F-3DA5-47FD-9756-BFB689780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9056577-6824-4F62-A7E9-9D8D05F81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7BE78-E80D-4A4F-8A32-C0F9B701C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39FD38E-A6C3-485B-B20B-DEFDA97C0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DC0E169-89CE-4DCD-83D5-0CA7ACD19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36A6A0B-8566-400D-8B17-6A4517995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D1C67BF-90EB-4B21-BB3A-1B2B8CDB3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750944B-DF8B-4CB1-81E3-A6614BEE1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0440593-2C58-43D8-8DDC-D3A3E45A0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1D51486-F800-455C-8F0A-8907E0578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2446A69-971D-434A-A80B-44A512CE1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06F754C-F757-4500-805C-EA0A5EB89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26ECA7F-35E2-417D-B6CE-6A23F79C5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E63A8-CE00-42B0-B25E-A51A76D8A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A999160-18FB-41D0-97FE-E7A148554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C8C1DE7-F79C-43E6-A829-1C5CEF891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4B81947-E504-48BD-8626-20C16F9E5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2104E9D-5793-4287-AFB5-30812F541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0C454CC-B112-45F1-947B-B8A0245DC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8963F16-7636-4E92-B024-606F75224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BAD32B5-E6FB-4086-BB3A-0BA4DEEEE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B52C6C1-2E38-4166-A349-3A55BBF18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1677ED3-7CDE-4B62-9F22-E8643883F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AFAD064-40DB-44D8-B91D-46A7AA0A2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58F51-2B87-4A0D-A960-44BA92339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4CB5A-76F9-4206-A4B0-1DCB4FD38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267ECED-FA03-4377-9000-32A6C8E16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0DDAF68-DCC9-4BBE-B6C4-FDE4649DB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17350FA-8D5C-450F-9699-5CE5E5E24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658368D-AD34-4827-A37B-381ABB766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9255C6D-FBF1-483E-B8C1-2B58D8DFB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48E7759-9600-4767-8850-C23FBEA33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08DB702-D665-4934-BCE9-FD8C9C755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5223685-CA4B-4AE6-B396-3CEC4DBA8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A224CB2-76E1-4061-9FB9-5FAE02E52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7FB5BCA-BB92-4A2B-99A8-65CF8F3F7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3B36D-07C0-4A17-AD98-C29E8DFB9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C54ECE4-F73F-44EA-8E8B-9F7AEB814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83482B4-EEB7-4C83-A4C4-12C976F4F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3061E51-3F00-4B8A-9751-83C849903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B97ED08-0431-4621-AB91-2827C6CC0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61FBC86-60FC-4BC4-B061-C9B9DC26C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932034C-DC28-461F-A975-8CE428F38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15AF709-E58A-4B60-A14D-64D637E05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93CEE5F-AC76-403C-A3CC-CB0F7F98E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D9DA416-B68B-4789-8904-C069621AD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7BACA24-DE1A-4217-AED4-BBE10041E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34302-0CC5-44FB-BD12-D6F16C14B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EB1F58A-1921-41E2-8135-F4BD39A43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DAE1324-1BE2-4793-A678-9746FCF6C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E36F251-9183-4424-A716-070541D32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FA06CCF-B8B6-44B1-8705-C2CD735D2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EE045D3-8AC5-4603-9B2B-33871FF28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B82C32A-B9C9-4803-8BBB-9784F7B4A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A22E846-7488-41CB-9B75-EEEDEA054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3E2BB98-B53B-4899-BE50-E1DC08416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D01B0DA-109F-4D9A-821A-623760083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5F9185F-FDD3-415B-BF72-871E2423C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9F612-93CB-4089-A03A-F134F4C94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17A78BB-2114-4CAC-A909-9C9EE8540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5668F9E-B9AE-41F9-B245-3026ECBE2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23725FA-91EC-450F-9992-159D73301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C7BFB30-E0ED-4E78-9163-01F75A8C1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7833A17-29F4-4A56-A311-FAFB13DF2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6B59848-C0B3-4DD9-B097-17C3F981A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CDE8926-5E7C-4E32-9684-5A0B8A2A6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2994ED6-49D0-483A-87F9-578AF9437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E166575-8FFC-4418-A7B7-E4D0B1670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6C23E24-9FFD-4CA7-BCD9-1C66609D1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A71E1-7B7A-422F-809A-84F32775A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939E80D-7A93-4324-9558-45DD8A222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195F553-1F38-4C5C-BB41-63759D5E6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83CCBFD-37AC-4F69-9E36-E527B72E0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AB21BC3-3C91-48E4-834C-7B07DEC35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B8C23A3-C7E8-449F-9E28-ED32CDDBF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31274FF-4573-474B-84D3-0E9C3FD7A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49F3907-C06D-4E46-AC46-97BD2C155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3FCB4FA-E4FF-45FB-8CA3-C17B3D177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B0A1FF3-B795-458D-A55F-B2AAD9177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89E8D64-F40E-4081-A37A-096F8CEF3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768E02-9C47-4F58-8FC4-2DD4C11DD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7110ADB-62AF-4AF3-B70F-FA6CF77C6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F086057-1F15-4790-BD07-F9338BCAE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8BB61AE-2C28-46B6-B2F8-FB96A922C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91284A9-3B5F-4A83-8040-888752075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425A34E-DE44-4396-97F0-4ADE8020C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83109B5-675C-4BE2-ADE6-276F41EE1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276C83A-C981-4355-8B74-3D1D7D569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D27364B-9742-4804-8471-D4219F9D4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5416AF1-3349-4C50-8D3B-DB6818DE9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7DB181F-FF8B-4F20-90B9-CC31CC0AC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589EE8-3573-4207-AAAC-F90F46F29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1FED263-5538-48DC-A760-5F3DFAFB4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DA6C292-EB2C-4B4E-A698-BD94B692F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166E7ED-D8A2-440A-996C-EA0903F39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D49DF06-CBC9-4DEB-982E-D9322DB25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1BD4800-5627-4724-84F0-B5D5E6D98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F8B40F-4419-4934-A09B-D4375DA79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80863A-A453-4622-BD4E-12F5773F4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FD3196-DC9C-4A18-9237-B82BA6AFF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F06B3-0A8A-407A-8846-88828366C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549C25-74A4-4E62-BA1C-9BFBA8735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EF9432-B8D8-40FC-A53D-0157ACB00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B94B74-6894-404E-A9D1-C6725AA72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D1B7AC-15D7-42FB-AE4B-3A3548CA3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018174-BCEB-41C8-8E93-9E56B4B6B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98F018-4DDB-44AB-9D50-CF3B7BBFC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3BB4CF-94F9-4823-90AE-CE08026F3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13AEE9-4EB8-4743-846D-C4EA7D6B7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C2755D-6F9A-497B-AB52-E7B6FC010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8D0BA6-1BE1-46A3-8DED-93A6855C5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C61F2-6641-446D-A3E1-A18CBFD54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90EA69-A749-495B-840C-898CB9E37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207EE6-A0D5-4927-8A0C-D4ACF2F73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4ED69E-3A17-4E71-815D-5E250F51C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C668BE-A89E-404C-A02F-E40E58044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6C9DE7-F4DD-4BEF-A49E-2BA180653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6FC6FE-9138-4AB8-B879-9E90072A8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DF1DF7-5A12-4386-A629-AA7D7DC56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F9E295-B52B-4FC7-8053-45DEA40A1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E65C07-BA6B-4CB0-A404-AEE548848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D6E032-9613-4ED1-B391-7E34591CA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2436B-7E4E-4BC7-A126-287BD27C1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EAF3A0-BB0B-4023-806C-7C2B75A3B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8F7410-B8A6-411B-96BC-33C72A7CF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942E18-4C87-4DF3-8ACE-0DC155F2C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1AD422-6BAF-49BB-BAF6-24B3D0659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6E755E-8F77-4179-80A7-F2AB8DA60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58FDE0-A01C-4BDE-845C-22D9FCC7C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64408E-038C-4AE3-BCAA-83B387F85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BA2572-E183-4878-BC36-A3BED083B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41227F-50F2-4C7A-A769-54AE95559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7F9E63-A6C5-464E-BE9E-BD741F629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B170D-ECFB-432B-98B0-CA6633524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E754D1-7B3D-4834-B71F-55148B48D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E3DE6B-ABA6-4228-A469-99CC499A5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037B71-4421-432D-9A28-0F4294DC2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980F5E-FFCA-486A-96FD-80141867F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DD293F-7796-41A9-8478-6BBB1A5E2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3A9481-CBB1-4238-9314-05555F16D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B57E7B-6C76-41CC-A6D5-AA0B6FDC2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896B4A-3D00-4C7F-8A63-7133C0433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37CDC1-5F9E-4D1F-8C67-789722EA5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421BDB-C20E-400A-B7C0-822D17480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C4D99-73BD-4361-BAFE-DFA2C2441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F2821E-3004-4704-9D4E-D0D3F7EA3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15FE8A-1749-4EF8-B60B-7722C4679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BF2A34-6EFB-4F27-8071-80DEF1F62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863F04-C560-4470-861E-BB22C42AF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D9A9DA-5AAC-4D0E-B3C3-7F8F502D9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FF694F-B04E-4C4E-B6E0-881842D27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9959E9-DEA8-4F09-9232-5B5338CEF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160552-B17E-4726-8B83-6F66D7FDC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75EF05-EED1-4BD6-BC2E-06DC0B137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113E9A-01AE-42AB-A687-2EF96C858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2A634-FB0F-42BA-9333-EF0788807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1E3EA5-9522-4622-9E48-6B98BD10D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5F1FB4-2B3D-4310-A063-B5BDA1F85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C0E1B9-522C-47A3-9887-F813417FC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B94854-8D0A-4F1E-9594-40D4B8129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B95720-AF1E-4533-96C6-2B645DFD7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967D6A-9ED3-4402-9119-6AEDE4945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4806B3-D43C-4989-BA06-1494E23E0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F85358-E827-4441-94E8-2827A72FD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31FF8F-E890-41A1-9E12-140B29CA7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866136-5B0A-4F30-AC99-F4CB348A4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AAC91-3159-42AA-91CA-B0B08AC23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F5D3F0-8002-4BD4-AB28-99C543A72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74EAB6-199A-486F-ABD5-887734CEB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341305-B19E-4F24-9F6C-A5E8A2569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A55C98-E658-4C97-912F-EBBC0EA8F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21BC32-9195-4B1E-B9B8-BC53EDF94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CE7776-EBDC-4EA6-BC34-C94F98908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B9E7C4-7D3A-4805-96BD-014293E05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74F52A-29AD-48CA-9AE3-5A5139AB8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4E36D7-9A22-41CA-B977-C3446949A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FCC960-EA17-457E-8064-C08B5B406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A2709-2F69-4F31-BE12-BB827E2ECC4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89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C172B-EDEA-4822-A126-A1871D8EBDF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66AC7-558E-498C-B513-9F23E21509D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D6434-56E6-4EC7-BE33-7E377B3CD58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A6DE4-9888-4A0E-87D9-845E484DB50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3D185-468B-486A-BB1D-56EBCFCD691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F3DC2-E239-49D2-B90F-49967D1FFB4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19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394FF-818C-4210-83B1-F7EB153C9A3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737F6-2B96-47B8-ABF6-AAE5C37592A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2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63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E946C-E9E3-4676-A831-E7EA72B93F7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D288A-989D-4FA8-A806-0E94917F86B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6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607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F2CDB-60E7-4F84-AA86-9C194024CEF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6A14C-A27D-45D9-AE32-1202D1D4B59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0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1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CC247-2DE4-4743-BFE4-285D97FEB12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6E5DA-63F4-4581-9550-F80987B641D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5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96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95A56-A86E-42E4-82D8-29A73DEF3AE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77FEA-0B30-4E88-9A5B-593D3C54C5D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0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B59D9-C2DC-46F1-8569-143B27551AC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3E667-51B3-4D30-A557-36EAA253868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4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E2B91-306A-40B0-96E2-3BBBC1E6E86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F1866-B7FD-4178-AA99-7448D159194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236B4-EEE9-4A49-A0C1-15E2F86FD193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9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3C7A5-C951-4667-AB91-4A405382E7C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8ED35-3922-47B2-8BD6-AF7A7109BB5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4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75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4D52A-FAE4-44B7-B82E-8099B3681CF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09175-22EB-4FCC-A97F-049A1BF9E53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9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920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557E6-0E41-4734-A2C9-A24EA8A34D7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20059-414C-4859-B390-FE1CD5831B4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7884C-2626-43B0-A322-4B9452D1336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BE472-B364-4041-BDCF-BD489ADD75E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44A81-62E6-4CBA-8B1C-236A73CA715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69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D9217-7098-450D-9AA2-C6C8F71F139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86F59-32C1-477F-B3CC-D46EF8BB585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13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1513F-A4DC-4767-A62C-D02AC28BC0A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B201B-ED02-4345-8C93-8EB5A18397A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57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2805B-12A4-405B-A786-0D20BA2A70C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707AB-43D3-4A26-AE08-34B2659A908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1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7E2D3-3324-4122-9F5E-C2201FD207D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6C05A-57FF-43F2-B679-24018BA990A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45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A18CF-9EBF-4515-A818-86653DBB3E7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D5E24-426E-4E41-8529-C7B21BAB65C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image" Target="../media/image10.png"/><Relationship Id="rId15" Type="http://schemas.openxmlformats.org/officeDocument/2006/relationships/image" Target="../media/image10.png"/><Relationship Id="rId16" Type="http://schemas.openxmlformats.org/officeDocument/2006/relationships/image" Target="../media/image10.png"/><Relationship Id="rId17" Type="http://schemas.openxmlformats.org/officeDocument/2006/relationships/image" Target="../media/image10.png"/><Relationship Id="rId18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2" name="图片 5121" descr=""/>
          <p:cNvPicPr/>
          <p:nvPr/>
        </p:nvPicPr>
        <p:blipFill>
          <a:blip r:embed="rId1"/>
          <a:stretch/>
        </p:blipFill>
        <p:spPr>
          <a:xfrm>
            <a:off x="2176560" y="3138480"/>
            <a:ext cx="4790880" cy="5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3" name="图片 6145" descr=""/>
          <p:cNvPicPr/>
          <p:nvPr/>
        </p:nvPicPr>
        <p:blipFill>
          <a:blip r:embed="rId1"/>
          <a:stretch/>
        </p:blipFill>
        <p:spPr>
          <a:xfrm>
            <a:off x="357120" y="1119240"/>
            <a:ext cx="8429760" cy="4619520"/>
          </a:xfrm>
          <a:prstGeom prst="rect">
            <a:avLst/>
          </a:prstGeom>
          <a:ln w="0">
            <a:noFill/>
          </a:ln>
        </p:spPr>
      </p:pic>
      <p:pic>
        <p:nvPicPr>
          <p:cNvPr id="964" name="Picture 1" descr=""/>
          <p:cNvPicPr/>
          <p:nvPr/>
        </p:nvPicPr>
        <p:blipFill>
          <a:blip r:embed="rId2"/>
          <a:stretch/>
        </p:blipFill>
        <p:spPr>
          <a:xfrm>
            <a:off x="2124000" y="3400560"/>
            <a:ext cx="358920" cy="318960"/>
          </a:xfrm>
          <a:prstGeom prst="rect">
            <a:avLst/>
          </a:prstGeom>
          <a:ln w="0">
            <a:noFill/>
          </a:ln>
        </p:spPr>
      </p:pic>
      <p:pic>
        <p:nvPicPr>
          <p:cNvPr id="965" name="Picture 1" descr=""/>
          <p:cNvPicPr/>
          <p:nvPr/>
        </p:nvPicPr>
        <p:blipFill>
          <a:blip r:embed="rId3"/>
          <a:stretch/>
        </p:blipFill>
        <p:spPr>
          <a:xfrm>
            <a:off x="3924360" y="3371760"/>
            <a:ext cx="358560" cy="319320"/>
          </a:xfrm>
          <a:prstGeom prst="rect">
            <a:avLst/>
          </a:prstGeom>
          <a:ln w="0">
            <a:noFill/>
          </a:ln>
        </p:spPr>
      </p:pic>
      <p:pic>
        <p:nvPicPr>
          <p:cNvPr id="966" name="Picture 1" descr=""/>
          <p:cNvPicPr/>
          <p:nvPr/>
        </p:nvPicPr>
        <p:blipFill>
          <a:blip r:embed="rId4"/>
          <a:stretch/>
        </p:blipFill>
        <p:spPr>
          <a:xfrm>
            <a:off x="5796000" y="3414600"/>
            <a:ext cx="358560" cy="319320"/>
          </a:xfrm>
          <a:prstGeom prst="rect">
            <a:avLst/>
          </a:prstGeom>
          <a:ln w="0">
            <a:noFill/>
          </a:ln>
        </p:spPr>
      </p:pic>
      <p:pic>
        <p:nvPicPr>
          <p:cNvPr id="967" name="Picture 1" descr=""/>
          <p:cNvPicPr/>
          <p:nvPr/>
        </p:nvPicPr>
        <p:blipFill>
          <a:blip r:embed="rId5"/>
          <a:stretch/>
        </p:blipFill>
        <p:spPr>
          <a:xfrm>
            <a:off x="7667640" y="3371760"/>
            <a:ext cx="358920" cy="319320"/>
          </a:xfrm>
          <a:prstGeom prst="rect">
            <a:avLst/>
          </a:prstGeom>
          <a:ln w="0">
            <a:noFill/>
          </a:ln>
        </p:spPr>
      </p:pic>
      <p:pic>
        <p:nvPicPr>
          <p:cNvPr id="968" name="Picture 1" descr=""/>
          <p:cNvPicPr/>
          <p:nvPr/>
        </p:nvPicPr>
        <p:blipFill>
          <a:blip r:embed="rId6"/>
          <a:stretch/>
        </p:blipFill>
        <p:spPr>
          <a:xfrm>
            <a:off x="2627280" y="5315040"/>
            <a:ext cx="358920" cy="318960"/>
          </a:xfrm>
          <a:prstGeom prst="rect">
            <a:avLst/>
          </a:prstGeom>
          <a:ln w="0">
            <a:noFill/>
          </a:ln>
        </p:spPr>
      </p:pic>
      <p:pic>
        <p:nvPicPr>
          <p:cNvPr id="969" name="Picture 1" descr=""/>
          <p:cNvPicPr/>
          <p:nvPr/>
        </p:nvPicPr>
        <p:blipFill>
          <a:blip r:embed="rId7"/>
          <a:stretch/>
        </p:blipFill>
        <p:spPr>
          <a:xfrm>
            <a:off x="6588000" y="5373720"/>
            <a:ext cx="358920" cy="3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5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0" name="图片 7169" descr=""/>
          <p:cNvPicPr/>
          <p:nvPr/>
        </p:nvPicPr>
        <p:blipFill>
          <a:blip r:embed="rId1"/>
          <a:stretch/>
        </p:blipFill>
        <p:spPr>
          <a:xfrm>
            <a:off x="395280" y="981000"/>
            <a:ext cx="6715080" cy="5229360"/>
          </a:xfrm>
          <a:prstGeom prst="rect">
            <a:avLst/>
          </a:prstGeom>
          <a:ln w="0">
            <a:noFill/>
          </a:ln>
        </p:spPr>
      </p:pic>
      <p:pic>
        <p:nvPicPr>
          <p:cNvPr id="971" name="图片 7170" descr=""/>
          <p:cNvPicPr/>
          <p:nvPr/>
        </p:nvPicPr>
        <p:blipFill>
          <a:blip r:embed="rId2"/>
          <a:stretch/>
        </p:blipFill>
        <p:spPr>
          <a:xfrm>
            <a:off x="7524720" y="3716280"/>
            <a:ext cx="1295280" cy="2419560"/>
          </a:xfrm>
          <a:prstGeom prst="rect">
            <a:avLst/>
          </a:prstGeom>
          <a:ln w="0">
            <a:noFill/>
          </a:ln>
        </p:spPr>
      </p:pic>
      <p:pic>
        <p:nvPicPr>
          <p:cNvPr id="972" name="Picture 1" descr=""/>
          <p:cNvPicPr/>
          <p:nvPr/>
        </p:nvPicPr>
        <p:blipFill>
          <a:blip r:embed="rId3"/>
          <a:stretch/>
        </p:blipFill>
        <p:spPr>
          <a:xfrm>
            <a:off x="3564000" y="1484280"/>
            <a:ext cx="358560" cy="318960"/>
          </a:xfrm>
          <a:prstGeom prst="rect">
            <a:avLst/>
          </a:prstGeom>
          <a:ln w="0">
            <a:noFill/>
          </a:ln>
        </p:spPr>
      </p:pic>
      <p:pic>
        <p:nvPicPr>
          <p:cNvPr id="973" name="Picture 1" descr=""/>
          <p:cNvPicPr/>
          <p:nvPr/>
        </p:nvPicPr>
        <p:blipFill>
          <a:blip r:embed="rId4"/>
          <a:stretch/>
        </p:blipFill>
        <p:spPr>
          <a:xfrm>
            <a:off x="3419640" y="2060640"/>
            <a:ext cx="358560" cy="318960"/>
          </a:xfrm>
          <a:prstGeom prst="rect">
            <a:avLst/>
          </a:prstGeom>
          <a:ln w="0">
            <a:noFill/>
          </a:ln>
        </p:spPr>
      </p:pic>
      <p:pic>
        <p:nvPicPr>
          <p:cNvPr id="974" name="Picture 1" descr=""/>
          <p:cNvPicPr/>
          <p:nvPr/>
        </p:nvPicPr>
        <p:blipFill>
          <a:blip r:embed="rId5"/>
          <a:stretch/>
        </p:blipFill>
        <p:spPr>
          <a:xfrm>
            <a:off x="1936800" y="2708280"/>
            <a:ext cx="358560" cy="318960"/>
          </a:xfrm>
          <a:prstGeom prst="rect">
            <a:avLst/>
          </a:prstGeom>
          <a:ln w="0">
            <a:noFill/>
          </a:ln>
        </p:spPr>
      </p:pic>
      <p:pic>
        <p:nvPicPr>
          <p:cNvPr id="975" name="Picture 1" descr=""/>
          <p:cNvPicPr/>
          <p:nvPr/>
        </p:nvPicPr>
        <p:blipFill>
          <a:blip r:embed="rId6"/>
          <a:stretch/>
        </p:blipFill>
        <p:spPr>
          <a:xfrm>
            <a:off x="4067280" y="3213000"/>
            <a:ext cx="358560" cy="319320"/>
          </a:xfrm>
          <a:prstGeom prst="rect">
            <a:avLst/>
          </a:prstGeom>
          <a:ln w="0">
            <a:noFill/>
          </a:ln>
        </p:spPr>
      </p:pic>
      <p:pic>
        <p:nvPicPr>
          <p:cNvPr id="976" name="Picture 1" descr=""/>
          <p:cNvPicPr/>
          <p:nvPr/>
        </p:nvPicPr>
        <p:blipFill>
          <a:blip r:embed="rId7"/>
          <a:stretch/>
        </p:blipFill>
        <p:spPr>
          <a:xfrm>
            <a:off x="4140360" y="3587760"/>
            <a:ext cx="358560" cy="318960"/>
          </a:xfrm>
          <a:prstGeom prst="rect">
            <a:avLst/>
          </a:prstGeom>
          <a:ln w="0">
            <a:noFill/>
          </a:ln>
        </p:spPr>
      </p:pic>
      <p:pic>
        <p:nvPicPr>
          <p:cNvPr id="977" name="Picture 1" descr=""/>
          <p:cNvPicPr/>
          <p:nvPr/>
        </p:nvPicPr>
        <p:blipFill>
          <a:blip r:embed="rId8"/>
          <a:stretch/>
        </p:blipFill>
        <p:spPr>
          <a:xfrm>
            <a:off x="1820880" y="4149720"/>
            <a:ext cx="358920" cy="318960"/>
          </a:xfrm>
          <a:prstGeom prst="rect">
            <a:avLst/>
          </a:prstGeom>
          <a:ln w="0">
            <a:noFill/>
          </a:ln>
        </p:spPr>
      </p:pic>
      <p:pic>
        <p:nvPicPr>
          <p:cNvPr id="978" name="Picture 1" descr=""/>
          <p:cNvPicPr/>
          <p:nvPr/>
        </p:nvPicPr>
        <p:blipFill>
          <a:blip r:embed="rId9"/>
          <a:stretch/>
        </p:blipFill>
        <p:spPr>
          <a:xfrm>
            <a:off x="2800440" y="4149720"/>
            <a:ext cx="358560" cy="318960"/>
          </a:xfrm>
          <a:prstGeom prst="rect">
            <a:avLst/>
          </a:prstGeom>
          <a:ln w="0">
            <a:noFill/>
          </a:ln>
        </p:spPr>
      </p:pic>
      <p:pic>
        <p:nvPicPr>
          <p:cNvPr id="979" name="Picture 1" descr=""/>
          <p:cNvPicPr/>
          <p:nvPr/>
        </p:nvPicPr>
        <p:blipFill>
          <a:blip r:embed="rId10"/>
          <a:stretch/>
        </p:blipFill>
        <p:spPr>
          <a:xfrm>
            <a:off x="3865680" y="4149720"/>
            <a:ext cx="358560" cy="31896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1" descr=""/>
          <p:cNvPicPr/>
          <p:nvPr/>
        </p:nvPicPr>
        <p:blipFill>
          <a:blip r:embed="rId11"/>
          <a:stretch/>
        </p:blipFill>
        <p:spPr>
          <a:xfrm>
            <a:off x="4341960" y="4135320"/>
            <a:ext cx="358560" cy="319320"/>
          </a:xfrm>
          <a:prstGeom prst="rect">
            <a:avLst/>
          </a:prstGeom>
          <a:ln w="0">
            <a:noFill/>
          </a:ln>
        </p:spPr>
      </p:pic>
      <p:pic>
        <p:nvPicPr>
          <p:cNvPr id="981" name="Picture 1" descr=""/>
          <p:cNvPicPr/>
          <p:nvPr/>
        </p:nvPicPr>
        <p:blipFill>
          <a:blip r:embed="rId12"/>
          <a:stretch/>
        </p:blipFill>
        <p:spPr>
          <a:xfrm>
            <a:off x="2556000" y="4653000"/>
            <a:ext cx="358560" cy="318960"/>
          </a:xfrm>
          <a:prstGeom prst="rect">
            <a:avLst/>
          </a:prstGeom>
          <a:ln w="0">
            <a:noFill/>
          </a:ln>
        </p:spPr>
      </p:pic>
      <p:pic>
        <p:nvPicPr>
          <p:cNvPr id="982" name="Picture 1" descr=""/>
          <p:cNvPicPr/>
          <p:nvPr/>
        </p:nvPicPr>
        <p:blipFill>
          <a:blip r:embed="rId13"/>
          <a:stretch/>
        </p:blipFill>
        <p:spPr>
          <a:xfrm>
            <a:off x="4140360" y="4653000"/>
            <a:ext cx="358560" cy="318960"/>
          </a:xfrm>
          <a:prstGeom prst="rect">
            <a:avLst/>
          </a:prstGeom>
          <a:ln w="0">
            <a:noFill/>
          </a:ln>
        </p:spPr>
      </p:pic>
      <p:pic>
        <p:nvPicPr>
          <p:cNvPr id="983" name="Picture 1" descr=""/>
          <p:cNvPicPr/>
          <p:nvPr/>
        </p:nvPicPr>
        <p:blipFill>
          <a:blip r:embed="rId14"/>
          <a:stretch/>
        </p:blipFill>
        <p:spPr>
          <a:xfrm>
            <a:off x="3348000" y="5041800"/>
            <a:ext cx="358920" cy="319320"/>
          </a:xfrm>
          <a:prstGeom prst="rect">
            <a:avLst/>
          </a:prstGeom>
          <a:ln w="0">
            <a:noFill/>
          </a:ln>
        </p:spPr>
      </p:pic>
      <p:pic>
        <p:nvPicPr>
          <p:cNvPr id="984" name="Picture 1" descr=""/>
          <p:cNvPicPr/>
          <p:nvPr/>
        </p:nvPicPr>
        <p:blipFill>
          <a:blip r:embed="rId15"/>
          <a:stretch/>
        </p:blipFill>
        <p:spPr>
          <a:xfrm>
            <a:off x="5796000" y="5084640"/>
            <a:ext cx="358560" cy="319320"/>
          </a:xfrm>
          <a:prstGeom prst="rect">
            <a:avLst/>
          </a:prstGeom>
          <a:ln w="0">
            <a:noFill/>
          </a:ln>
        </p:spPr>
      </p:pic>
      <p:pic>
        <p:nvPicPr>
          <p:cNvPr id="985" name="Picture 1" descr=""/>
          <p:cNvPicPr/>
          <p:nvPr/>
        </p:nvPicPr>
        <p:blipFill>
          <a:blip r:embed="rId16"/>
          <a:stretch/>
        </p:blipFill>
        <p:spPr>
          <a:xfrm>
            <a:off x="4067280" y="5459400"/>
            <a:ext cx="936360" cy="318960"/>
          </a:xfrm>
          <a:prstGeom prst="rect">
            <a:avLst/>
          </a:prstGeom>
          <a:ln w="0">
            <a:noFill/>
          </a:ln>
        </p:spPr>
      </p:pic>
      <p:pic>
        <p:nvPicPr>
          <p:cNvPr id="986" name="Picture 1" descr=""/>
          <p:cNvPicPr/>
          <p:nvPr/>
        </p:nvPicPr>
        <p:blipFill>
          <a:blip r:embed="rId17"/>
          <a:stretch/>
        </p:blipFill>
        <p:spPr>
          <a:xfrm>
            <a:off x="3132000" y="5862600"/>
            <a:ext cx="3384720" cy="3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5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5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50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500"/>
                                        <p:tgtEl>
                                          <p:spTgt spid="9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8" dur="500"/>
                                        <p:tgtEl>
                                          <p:spTgt spid="9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3" dur="500"/>
                                        <p:tgtEl>
                                          <p:spTgt spid="9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8" dur="500"/>
                                        <p:tgtEl>
                                          <p:spTgt spid="9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3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8" dur="500"/>
                                        <p:tgtEl>
                                          <p:spTgt spid="9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3" dur="500"/>
                                        <p:tgtEl>
                                          <p:spTgt spid="9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8" dur="500"/>
                                        <p:tgtEl>
                                          <p:spTgt spid="9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3" dur="500"/>
                                        <p:tgtEl>
                                          <p:spTgt spid="9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8" dur="500"/>
                                        <p:tgtEl>
                                          <p:spTgt spid="9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3" dur="500"/>
                                        <p:tgtEl>
                                          <p:spTgt spid="9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8" dur="500"/>
                                        <p:tgtEl>
                                          <p:spTgt spid="9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7" name="图片 8193" descr=""/>
          <p:cNvPicPr/>
          <p:nvPr/>
        </p:nvPicPr>
        <p:blipFill>
          <a:blip r:embed="rId1"/>
          <a:stretch/>
        </p:blipFill>
        <p:spPr>
          <a:xfrm>
            <a:off x="314280" y="2290680"/>
            <a:ext cx="8515440" cy="2276640"/>
          </a:xfrm>
          <a:prstGeom prst="rect">
            <a:avLst/>
          </a:prstGeom>
          <a:ln w="0">
            <a:noFill/>
          </a:ln>
        </p:spPr>
      </p:pic>
      <p:pic>
        <p:nvPicPr>
          <p:cNvPr id="988" name="图片 8194" descr=""/>
          <p:cNvPicPr/>
          <p:nvPr/>
        </p:nvPicPr>
        <p:blipFill>
          <a:blip r:embed="rId2"/>
          <a:stretch/>
        </p:blipFill>
        <p:spPr>
          <a:xfrm>
            <a:off x="1116000" y="3443400"/>
            <a:ext cx="438120" cy="438120"/>
          </a:xfrm>
          <a:prstGeom prst="rect">
            <a:avLst/>
          </a:prstGeom>
          <a:ln w="0">
            <a:noFill/>
          </a:ln>
        </p:spPr>
      </p:pic>
      <p:pic>
        <p:nvPicPr>
          <p:cNvPr id="989" name="图片 8195" descr=""/>
          <p:cNvPicPr/>
          <p:nvPr/>
        </p:nvPicPr>
        <p:blipFill>
          <a:blip r:embed="rId3"/>
          <a:stretch/>
        </p:blipFill>
        <p:spPr>
          <a:xfrm>
            <a:off x="3348000" y="3443400"/>
            <a:ext cx="438120" cy="438120"/>
          </a:xfrm>
          <a:prstGeom prst="rect">
            <a:avLst/>
          </a:prstGeom>
          <a:ln w="0">
            <a:noFill/>
          </a:ln>
        </p:spPr>
      </p:pic>
      <p:pic>
        <p:nvPicPr>
          <p:cNvPr id="990" name="图片 8196" descr=""/>
          <p:cNvPicPr/>
          <p:nvPr/>
        </p:nvPicPr>
        <p:blipFill>
          <a:blip r:embed="rId4"/>
          <a:stretch/>
        </p:blipFill>
        <p:spPr>
          <a:xfrm>
            <a:off x="5580000" y="3443400"/>
            <a:ext cx="438120" cy="438120"/>
          </a:xfrm>
          <a:prstGeom prst="rect">
            <a:avLst/>
          </a:prstGeom>
          <a:ln w="0">
            <a:noFill/>
          </a:ln>
        </p:spPr>
      </p:pic>
      <p:pic>
        <p:nvPicPr>
          <p:cNvPr id="991" name="图片 8197" descr=""/>
          <p:cNvPicPr/>
          <p:nvPr/>
        </p:nvPicPr>
        <p:blipFill>
          <a:blip r:embed="rId5"/>
          <a:stretch/>
        </p:blipFill>
        <p:spPr>
          <a:xfrm>
            <a:off x="8056440" y="3443400"/>
            <a:ext cx="438120" cy="438120"/>
          </a:xfrm>
          <a:prstGeom prst="rect">
            <a:avLst/>
          </a:prstGeom>
          <a:ln w="0">
            <a:noFill/>
          </a:ln>
        </p:spPr>
      </p:pic>
      <p:pic>
        <p:nvPicPr>
          <p:cNvPr id="992" name="图片 8198" descr=""/>
          <p:cNvPicPr/>
          <p:nvPr/>
        </p:nvPicPr>
        <p:blipFill>
          <a:blip r:embed="rId6"/>
          <a:stretch/>
        </p:blipFill>
        <p:spPr>
          <a:xfrm>
            <a:off x="1101600" y="3990960"/>
            <a:ext cx="438120" cy="438120"/>
          </a:xfrm>
          <a:prstGeom prst="rect">
            <a:avLst/>
          </a:prstGeom>
          <a:ln w="0">
            <a:noFill/>
          </a:ln>
        </p:spPr>
      </p:pic>
      <p:pic>
        <p:nvPicPr>
          <p:cNvPr id="993" name="图片 8199" descr=""/>
          <p:cNvPicPr/>
          <p:nvPr/>
        </p:nvPicPr>
        <p:blipFill>
          <a:blip r:embed="rId7"/>
          <a:stretch/>
        </p:blipFill>
        <p:spPr>
          <a:xfrm>
            <a:off x="3362400" y="3990960"/>
            <a:ext cx="438120" cy="438120"/>
          </a:xfrm>
          <a:prstGeom prst="rect">
            <a:avLst/>
          </a:prstGeom>
          <a:ln w="0">
            <a:noFill/>
          </a:ln>
        </p:spPr>
      </p:pic>
      <p:pic>
        <p:nvPicPr>
          <p:cNvPr id="994" name="图片 8200" descr=""/>
          <p:cNvPicPr/>
          <p:nvPr/>
        </p:nvPicPr>
        <p:blipFill>
          <a:blip r:embed="rId8"/>
          <a:stretch/>
        </p:blipFill>
        <p:spPr>
          <a:xfrm>
            <a:off x="5580000" y="3990960"/>
            <a:ext cx="438120" cy="438120"/>
          </a:xfrm>
          <a:prstGeom prst="rect">
            <a:avLst/>
          </a:prstGeom>
          <a:ln w="0">
            <a:noFill/>
          </a:ln>
        </p:spPr>
      </p:pic>
      <p:pic>
        <p:nvPicPr>
          <p:cNvPr id="995" name="图片 8201" descr=""/>
          <p:cNvPicPr/>
          <p:nvPr/>
        </p:nvPicPr>
        <p:blipFill>
          <a:blip r:embed="rId9"/>
          <a:stretch/>
        </p:blipFill>
        <p:spPr>
          <a:xfrm>
            <a:off x="8056440" y="4005360"/>
            <a:ext cx="43812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5" dur="500"/>
                                        <p:tgtEl>
                                          <p:spTgt spid="9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0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5" dur="500"/>
                                        <p:tgtEl>
                                          <p:spTgt spid="9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0" dur="500"/>
                                        <p:tgtEl>
                                          <p:spTgt spid="9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5" dur="500"/>
                                        <p:tgtEl>
                                          <p:spTgt spid="9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0" dur="500"/>
                                        <p:tgtEl>
                                          <p:spTgt spid="9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5" dur="500"/>
                                        <p:tgtEl>
                                          <p:spTgt spid="9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0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19T03:19:23Z</dcterms:modified>
  <cp:revision>2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